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DDE-92FE-48E0-BE86-76074A04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451-7EDC-45DD-BF5C-75C62750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0EE-DAFC-404B-9008-FCDA9FA4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490-90A0-4795-A93E-F14D02E1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A75B-1F5A-49EA-9D1B-D9DF86A2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DCEC-ED19-47BA-8D37-6BD8B8E3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92E8-486B-47E4-B6C2-6EB7BC2B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49C6-38A4-4066-BE3F-25B18E17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292F-9520-46B0-93A1-E759A8D2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888480"/>
            <a:ext cx="7767720" cy="44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814E-2B13-4370-ABD5-D28E771B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DAE5-F4E3-4E15-8DA8-9907205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481-CEE9-4482-9AAD-E78A7B66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ABE8-4043-4406-9E4B-CB8140B2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67E-15B4-4CD1-A41A-E428CF9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CB0F-BD44-46C8-83DE-7A8D72DE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21D8-B21A-48F2-B228-1A207E62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DF7C-F655-42CF-8830-683FC34C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EB9-0578-40F9-B6C4-D4890855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772-E037-4EF7-946C-28754B8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8E9-212E-4FDB-817A-E7D9935A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888480"/>
            <a:ext cx="7767720" cy="44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836-531F-4A75-B342-ADBC8E6A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895-1D96-4D5C-850C-BA6B5C21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630-9466-4D9E-9FE6-95886D0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777-EE54-4860-812D-365D71F5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3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601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601"/>
              </a:spcBef>
              <a:buClr>
                <a:srgbClr val="333333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23BB6-3118-45F0-959F-22D5A258DB80}" type="datetime">
              <a:rPr b="0" lang="fi-FI" sz="1000" spc="-1" strike="noStrike">
                <a:solidFill>
                  <a:srgbClr val="808080"/>
                </a:solidFill>
                <a:latin typeface="Tahoma"/>
              </a:rPr>
              <a:t>30.07.26</a:t>
            </a:fld>
            <a:r>
              <a:rPr b="0" lang="en-GB" sz="1000" spc="-1" strike="noStrike">
                <a:solidFill>
                  <a:srgbClr val="808080"/>
                </a:solidFill>
                <a:latin typeface="Tahoma"/>
              </a:rPr>
              <a:t>19.11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Tahoma"/>
              </a:rPr>
              <a:t>06.06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2448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341AF-1403-4AC8-BF7F-55C5F66E421C}" type="slidenum">
              <a:rPr b="0" lang="en-GB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i-FI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EC9B55-0172-4361-A8EB-551CC1BE9F6E}" type="datetime">
              <a:rPr b="0" lang="fi-FI" sz="1000" spc="-1" strike="noStrike">
                <a:solidFill>
                  <a:srgbClr val="808080"/>
                </a:solidFill>
                <a:latin typeface="Tahoma"/>
              </a:rPr>
              <a:t>30.07.26</a:t>
            </a:fld>
            <a:r>
              <a:rPr b="0" lang="en-GB" sz="1000" spc="-1" strike="noStrike">
                <a:solidFill>
                  <a:srgbClr val="808080"/>
                </a:solidFill>
                <a:latin typeface="Tahoma"/>
              </a:rPr>
              <a:t>19.11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Tahoma"/>
              </a:rPr>
              <a:t>06.06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48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172F4B-EB15-41D7-ABD0-7E0B9223C397}" type="slidenum">
              <a:rPr b="0" lang="en-GB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2400" spc="-1" strike="noStrike">
                <a:solidFill>
                  <a:srgbClr val="333333"/>
                </a:solidFill>
                <a:latin typeface="Tahoma"/>
              </a:rPr>
              <a:t>eVoting 2008: Statistics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71440" y="2417760"/>
          <a:ext cx="6456600" cy="3027240"/>
        </p:xfrm>
        <a:graphic>
          <a:graphicData uri="http://schemas.openxmlformats.org/drawingml/2006/table">
            <a:tbl>
              <a:tblPr/>
              <a:tblGrid>
                <a:gridCol w="1292400"/>
                <a:gridCol w="1290600"/>
                <a:gridCol w="1290600"/>
                <a:gridCol w="1290600"/>
                <a:gridCol w="1292400"/>
              </a:tblGrid>
              <a:tr h="92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ntitled 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ers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wh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o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V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ap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allo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Karkk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Kauniai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63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6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6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ih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05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1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0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406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0357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22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1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ähköinen äänestys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3D7-DC12-4338-9592-BB730DBBEF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2400" spc="-1" strike="noStrike">
                <a:solidFill>
                  <a:srgbClr val="333333"/>
                </a:solidFill>
                <a:latin typeface="Tahoma"/>
              </a:rPr>
              <a:t>eVoting 2008: Statistics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71640" y="2565360"/>
          <a:ext cx="6913440" cy="2254320"/>
        </p:xfrm>
        <a:graphic>
          <a:graphicData uri="http://schemas.openxmlformats.org/drawingml/2006/table">
            <a:tbl>
              <a:tblPr/>
              <a:tblGrid>
                <a:gridCol w="2305080"/>
                <a:gridCol w="2303280"/>
                <a:gridCol w="23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Vote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aper ballot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Karkk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52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7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Kaunia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64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ih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61.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6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9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ähköinen äänestys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ACA-C7F5-4510-93C9-F8F08072E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1989000"/>
          <a:ext cx="9144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914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2400" spc="-1" strike="noStrike">
                <a:solidFill>
                  <a:srgbClr val="333333"/>
                </a:solidFill>
                <a:latin typeface="Tahoma"/>
              </a:rPr>
              <a:t>eVoting 2008: electoral behaviour by age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ähköinen äänestys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C7D-3FC7-4EAC-8D6F-E56645A3F3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2000" spc="-1" strike="noStrike">
                <a:solidFill>
                  <a:srgbClr val="333333"/>
                </a:solidFill>
                <a:latin typeface="Tahoma"/>
              </a:rPr>
              <a:t>eVoting 2008: women’s electoral behaviour by age, 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693800" y="1981080"/>
          <a:ext cx="5749920" cy="41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1981080"/>
                    <a:ext cx="574992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0" y="2131920"/>
          <a:ext cx="9144000" cy="439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1920"/>
                    <a:ext cx="914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ähköinen äänestys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2E9-04FD-4D5A-90FB-76F417EF1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2000" spc="-1" strike="noStrike">
                <a:solidFill>
                  <a:srgbClr val="333333"/>
                </a:solidFill>
                <a:latin typeface="Tahoma"/>
              </a:rPr>
              <a:t>eVoting 2008: men’s electoral behaviour by age, 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93800" y="1981080"/>
          <a:ext cx="5749920" cy="41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1981080"/>
                    <a:ext cx="574992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0" y="2060640"/>
          <a:ext cx="9144000" cy="439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60640"/>
                    <a:ext cx="914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ähköinen äänestys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ACF-25E0-4029-863B-99510D76F1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7677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400" spc="-1" strike="noStrike">
                <a:solidFill>
                  <a:srgbClr val="333333"/>
                </a:solidFill>
                <a:latin typeface="Tahoma"/>
              </a:rPr>
              <a:t>Persons who voted in the 2008 pilot municipalities by age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1844640"/>
          <a:ext cx="83534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3534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ähköinen äänestys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259-916B-4B9B-A1F0-F03D2C184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ikeusministeriö</cp:lastModifiedBy>
  <dcterms:modified xsi:type="dcterms:W3CDTF">2008-10-27T13:16:26Z</dcterms:modified>
  <cp:revision>37</cp:revision>
  <dc:subject/>
  <dc:title>Dia 1</dc:title>
</cp:coreProperties>
</file>